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EBB-CD06-45D1-BCC4-133431C7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8EF-5FBD-4A01-B391-37D51CDF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520-FF14-4B9E-BE2D-DD7F3F34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BDF-6452-4C16-B593-C0AFA577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146-52F4-43C0-AD24-BA73EEF5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F92-E0C1-499F-B1D5-CD08CA93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ACD-081F-4DFC-87E4-38216B71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309-641C-48AA-9765-44327B9F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A86-0D71-4223-B504-16404191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C44-568E-4519-AACC-58BD340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504-0B86-4D6D-94DB-F74C6757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8DE-7C46-4AC9-AB57-88953344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DCEE-D63E-4ECD-B6F5-EF46EFF6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40388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Microsoft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Start – Bottom Task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PowerPoint in the short cut menu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ograms &gt; Microsoft Office &gt;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in the top box to add title and in lower box to add sub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0" y="304920"/>
            <a:ext cx="4038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Toolbars under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oolbar becomes available when you click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and Formatting should always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with others as you become comf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ting Up a Slideshow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to practice and play with these features to your individual t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419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how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the slide show. There is also an icon in the bottom left cor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Up S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show looping over and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 each slide on a mouse click (manually) or automatically (using timing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00600" y="2525760"/>
            <a:ext cx="4038480" cy="3722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411480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67080" y="4114800"/>
            <a:ext cx="259092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1295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ll slides or a range of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057400"/>
            <a:ext cx="7632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a Slid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 An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you want words or pictures to enter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Add Effect and choose an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371600"/>
            <a:ext cx="293688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35049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a Slid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 Tran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ccurs as one slide moves 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appear in the task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spe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 the slide on a mouse click, or set a time for it to automatically occ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: you must check “Using timings” under Set Up Show for the auto to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o all sli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n’t click if you just want it applied to the current slid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324480" y="1371600"/>
            <a:ext cx="2498760" cy="5105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52880" y="3200400"/>
            <a:ext cx="175284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1911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2004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943600" y="5790960"/>
            <a:ext cx="45720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is under File just like all Microsof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rint each slide individually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rint as a handout with multiple slides on a page like this Quick Start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1280"/>
            <a:ext cx="8839440" cy="1986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7432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formatting in PowerPoint is just like the formatting in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809880"/>
            <a:ext cx="4038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you are ready for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sl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lick 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Sl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when you want to choose 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ckground desig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lick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7238880" y="1447920"/>
            <a:ext cx="0" cy="228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057400" y="137160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Basic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topics or talking point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background color or graphic / light letter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background color or graphic / dark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und effects carefully or not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is more or Simple is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ackground throug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re than 3 f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graphic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48520" y="76320"/>
            <a:ext cx="2590560" cy="6629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4572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ime you choose a new slide you will need to pick a layout from the many available or choose a blank and create you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6440" y="1916280"/>
            <a:ext cx="588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 charts, movies, tables, and graphics can be easi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ed to any slide.  Experiment with each lay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080" y="3821040"/>
            <a:ext cx="542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nk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dd any object (text, graphic, table, chart, movie, or sound) to a slide click on Insert at the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object you want to insert and click on the slide where you wish to place the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541008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43400" y="152280"/>
            <a:ext cx="4678200" cy="5410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1066680"/>
            <a:ext cx="4038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Ways to View Sl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 S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Four View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to build your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 So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overview of entir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ove slides around and reorde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s your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add notes for talking that do not appear on the slide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769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the Slid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7672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many options under Slide Sh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114800" y="1676520"/>
            <a:ext cx="1143000" cy="167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5:14:36Z</dcterms:created>
  <dc:creator>Helen Gooch</dc:creator>
  <dc:description/>
  <dc:language>en-US</dc:language>
  <cp:lastModifiedBy>Amy McWhirter</cp:lastModifiedBy>
  <dcterms:modified xsi:type="dcterms:W3CDTF">2007-04-23T14:34:44Z</dcterms:modified>
  <cp:revision>9</cp:revision>
  <dc:subject/>
  <dc:title>PowerPoint Quick Start </dc:title>
</cp:coreProperties>
</file>